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2DF-8AFE-41C4-8D7C-A4C3969B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4DD-D858-45E4-B77B-DEF336B1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91E3CB-E31A-4D5F-8B0B-25E69F4D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73D380-1C21-40EA-BD3D-9E0BECBE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59540D-2112-4FDE-BE75-CE3117D5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39583D-95F9-49F7-BC3D-9E46EE79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FB1C82-A745-4C1B-92BB-63608A13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D2E726-140A-4301-BA65-12025B59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BD1402-F910-4D97-908D-28B4022D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273EAD-1756-49B5-A58F-517E529C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3011A7-96F1-4488-872E-F52EED6B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8432AD-DC68-4ED3-A596-3FE390CB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82E-B1E2-47B7-8F27-5725A29C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70A3E4-9BFD-47C1-B459-49FA2632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6BC991-78A3-453B-A7A3-30F3549F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155427-84F0-4F24-B925-9E92F541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ED6088-6B59-4351-8E90-D7FED946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F46B13-9340-4715-A745-D8749D88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9F34A3-8B06-443C-A044-D562F067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0A88D3-3BF7-408F-A4D1-379BDD46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03EBBD-A6AE-4989-861F-461B5D8D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D2B196-AD46-4793-9897-BBAEAE0F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DB0991-5F76-4515-890D-CAF18C83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0BE9-9747-4227-BBB4-4032E836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2C0F04-E087-4A93-BBAB-7E08F002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E32915-0A70-48A1-AF32-699EB42E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595139-9625-466C-98E8-704D02FE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FEDF80-2687-4085-AEAA-1157008F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9FF341-3596-4B9C-8F95-8B55FDD4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66184F-85DD-406E-9266-71BB130B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07FE1B-B979-4E0B-AC4E-932C8806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32DA56-E3EB-4B61-B9E1-12100254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B779D8-7242-4CF3-8063-8DB0CD54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22E992-7A14-4664-A2CD-9725EE7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0496-B878-4912-A1BE-95E3BBC0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0A253D-D27F-400D-9C4F-14EB95B6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E03B9F-1898-48E0-BBAB-35816F94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97266F-9392-4E46-A052-BE147127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C985-09BA-40E3-AC42-DEC71036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88F3-A73A-4D37-B1B8-91ECBE26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07EB-0CA1-4764-9981-25FD32C5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1F16-5FAF-40F2-B227-81428F01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ECC0-FE74-4BED-AEE5-0159D669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6D9F-2916-46CA-8AF9-63742BD1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0AD-2D3B-4421-AB33-7C1AB051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A524-FC3D-45BA-B5AC-D1BBC9A0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BC9B-3E0C-4693-B9A1-5AEF0B5F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559D-4CF5-4744-9E76-33FF1FA0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BBC0-DDEA-4814-8FA6-A87631CA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BE15-57C8-4121-858E-2A001C92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19F8D-283F-4D67-89CC-F1F144AB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2CE62-0176-4BE7-ABF8-BAE5D4B5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6FE56-F313-4376-A07A-9B35B411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6388B-141D-4F95-B445-4266A619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7CA1E-DB84-4CF2-8CEC-5553977B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FF8-978C-4352-9761-F81021E0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C851E-20C6-4FB0-B7A8-7C913DEC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C6380-B8BB-4FC4-A2B6-0B2CE9DD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02090-4F8F-43CD-ACB2-5A7A8F46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D5353-25E2-4CA6-8449-116515E9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1F501-D1BD-45FB-B533-1F702951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623FA-790C-4D9D-8D3D-88E6F7B3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198AC-8220-40BB-8ADB-986BD403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4F75C-A005-4CCF-BFFB-271C7676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E0D8A-7F4F-446E-A89A-C9D8027D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9B474-3FF5-4DF1-8770-7333FDB1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B38-A3C9-4026-BBB8-5392E613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2B3F6-2F32-46F6-9E57-D98A1876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AD7E7-FAD1-4F78-9C2E-01BA3D13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40073-8384-4E5A-A3A7-45E692D1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C6444-4A93-4565-BDAD-D6FFAA3D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FD635-4118-484E-B6E7-628CC9B9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999C2-5BA8-4F5C-9195-1779E33D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E2B3C-26A6-4F12-91BB-59D88A4E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60773-3699-4BB3-8937-EA7C1412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D984C-5158-4F54-BE2D-FC6034C4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CBA18C-EBB4-423C-84E6-98F5DBC0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72C-012B-424C-BF24-8AE7A76F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BF640B-504A-4CF6-BD84-988530F0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276DA3-FCFD-41B1-9D5C-458EF2EA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5C2663-510F-4134-B7BF-77BE962A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A318FE-A65B-4AB9-9064-3D29CE32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76E8E8-1E12-4796-8054-DF975760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5FF0A2-B5F3-41F2-A360-F19F3002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DE6427-717A-45B7-91C9-B6EEEDBC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A45C2D-3CE9-4227-A1E0-59A30DA6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4919E3-8F27-4D66-96DE-F04FF8AD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D23B77-B385-4D4B-93B4-20EEE32E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6D3-EDCF-4D4E-B181-B4054659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499E07-077C-4A8C-8437-FF46748B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2AD66-7BE0-4F01-9A05-1BDA3B99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9019A-E32A-481D-86CC-229A31A1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8D646-F861-4E9B-95EE-21627D80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240BA-8DD7-4431-AB70-9B7D055E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5C9BE-0E4B-4050-A0BE-A4B062A4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39FD9-7A71-4E3D-B6DE-958DD414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1F8CD-6DA5-4E40-9355-FB4BD70F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98C40-C3D7-4DE4-8FB4-4CE04934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DF4CF-35E3-400B-A96F-9C5A0206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694-F9C6-4F93-B898-F056955A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AA961-7ECB-46CC-B29C-1326F07D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D9410-A74E-4811-A43C-11063C2C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5621E-D339-4D3E-8065-6CD12847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7CE26-66AC-448A-BF9B-2B448DDD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D464D-6190-4166-AB69-FE1150A1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E96A4A-FFE2-4D3F-BA2E-2B6ED767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1AEC9-AD84-4FDA-812F-D0C41EBE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36FA5-CA2C-41AE-8014-93399A63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CFA3F-371B-4754-B70C-7B4FDBC9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8FBC4C-6963-4CBA-94EF-3066E42C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39A-F65F-4AA7-825D-A9F38541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35ECC-7590-4973-82B3-07CD43F4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B9DDEF-83CB-4E88-B2DF-99051452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051A5-BD5E-4AE1-98F8-92945B5C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8D1CED-2829-41D3-81E9-319F79D1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E8F4D1-BFB1-4CF2-B3CC-FF25C2BE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42845-8BF4-4551-AAAD-8A824914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DDB68-1C68-4EA6-B6CF-FB699C6F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541EB-16ED-48E3-9775-3465BD40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16390-DF62-41FE-9C7B-E472BFF8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A7459-1FDC-49FF-BEBC-0EB11B80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3B5-F012-4D53-B6BA-A727C93C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0B763-410A-48DA-904D-76BB72F2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96ECC-D04A-4A4A-9047-8D9149C2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2CBF7-4144-4438-8885-59641769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CE02C-CA51-4C7A-9B37-B87F1FDF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192A4-4854-4758-B8BB-B7779A68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529E7-C712-43D4-88D6-E6F8D4D8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72531-A469-440E-8BEA-137E3DC4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5DF632-8C5A-477E-8224-40E1A4EE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54B110-47FA-438B-A114-EF22DD00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4A019F-7F21-4062-8120-CC45F1B3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CABE-D821-4D42-84E5-8DD6BFAFD80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352E-68ED-4C9D-8EA1-774335ACDE2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6E01-C54D-492E-AA42-19E572021A0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3DD2-9A3B-4826-844C-6780DCFA769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5086-35DA-4950-8496-3D96C716752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08EE-CBDF-4100-AD9C-1147E6B3655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1328-17C1-49CD-AA2C-15FF15A4462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1422-8227-4AD8-BA39-EB493D74876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1BC6-DB7C-4446-9AFA-D85503B5CCB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39E3-D922-40AF-8AA4-AE6023BB15E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6403-ADD1-42B4-AFC2-581841F4C1C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vitawater.ru/products/korm02.shtml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alamand.ru/salamandra/" TargetMode="External"/><Relationship Id="rId3" Type="http://schemas.openxmlformats.org/officeDocument/2006/relationships/hyperlink" Target="http://salamand.ru/ognennaya-ili-pyatnistaya-salamandra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Заголовок 1" descr=""/>
          <p:cNvPicPr/>
          <p:nvPr/>
        </p:nvPicPr>
        <p:blipFill>
          <a:blip r:embed="rId1"/>
          <a:stretch/>
        </p:blipFill>
        <p:spPr>
          <a:xfrm>
            <a:off x="371520" y="353880"/>
            <a:ext cx="846756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85428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3"/>
          <p:cNvSpPr/>
          <p:nvPr/>
        </p:nvSpPr>
        <p:spPr>
          <a:xfrm>
            <a:off x="857160" y="1071720"/>
            <a:ext cx="7072560" cy="59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Испанские тритоны (</a:t>
            </a: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Pleurodeles waltl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) очень неприхотливы. Дома их содержать легко, причем можно пытаться "подружить" их с мирными аквариумными рыбками средней величины, например с золотыми. Испанские тритоны легко приучаются есть 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качественный сухой корм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и растут довольно быстро. В годовалом возрасте они начинают размножаться. Тритонья "свадьба" – забавное зрелище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    Однако сначала представим действующих лиц этого спектакля. Тритоны регулярно линяют. Сначала покров из слизи и отмерших эпителиальных клеток рвется на голове, а затем животное просто "вылезает из кожи" оставляя прозрачную оболочку. Как правило, эту шкурку тут же и поедают – дабы добро не пропадало. Линять тритонам необходимо вот по какой причине: в их газообмене огромную роль играет кожное дых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2" descr="K:\испанский трит"/>
          <p:cNvPicPr/>
          <p:nvPr/>
        </p:nvPicPr>
        <p:blipFill>
          <a:blip r:embed="rId3"/>
          <a:stretch/>
        </p:blipFill>
        <p:spPr>
          <a:xfrm>
            <a:off x="571680" y="1071720"/>
            <a:ext cx="77864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860400"/>
          </a:xfrm>
          <a:prstGeom prst="rect">
            <a:avLst/>
          </a:prstGeom>
          <a:ln w="0">
            <a:noFill/>
          </a:ln>
        </p:spPr>
      </p:pic>
      <p:sp>
        <p:nvSpPr>
          <p:cNvPr id="543" name="Прямоугольник 2"/>
          <p:cNvSpPr/>
          <p:nvPr/>
        </p:nvSpPr>
        <p:spPr>
          <a:xfrm>
            <a:off x="642960" y="1071720"/>
            <a:ext cx="75009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Огненная саламандра или пятнистая, обыкновенная саламандра (лат. Salamandra salamandra) – самое известное животное из рода саламандр (лат. Salamandra) отряда хвостатых земноводных. Именно это животное в силу своей пятнистой окраски и послужило прототипом для всех аллегорий, мифов и легенд, связанных с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саламандра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ми. Его желтые и оранжевые пятна на шкуре древние ученые, в частности Плиний Старший и Альберт Великий пытались связать со светом далеких звезд. Считалось, что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Constantia"/>
                <a:hlinkClick r:id="rId3"/>
              </a:rPr>
              <a:t>огненная саламандра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как-то влияет на появление метеоров, комет и новых звезд, а они в ответ влияют на расположение цветных пятен на ее шкуре. Также имела место связь с различными огненными явлениями, так как вытянутые пятна на шкуре ученые ассоциировали с языками пламени. Символизм в те времена был очень популярен, что принесло известность и этому яркому животному – пятнистой саламандре и нарисовало связь его с огн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2" descr="K:\огнен салам"/>
          <p:cNvPicPr/>
          <p:nvPr/>
        </p:nvPicPr>
        <p:blipFill>
          <a:blip r:embed="rId4"/>
          <a:stretch/>
        </p:blipFill>
        <p:spPr>
          <a:xfrm>
            <a:off x="714240" y="1071720"/>
            <a:ext cx="75009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860400"/>
          </a:xfrm>
          <a:prstGeom prst="rect">
            <a:avLst/>
          </a:prstGeom>
          <a:ln w="0">
            <a:noFill/>
          </a:ln>
        </p:spPr>
      </p:pic>
      <p:sp>
        <p:nvSpPr>
          <p:cNvPr id="546" name="Прямоугольник 2"/>
          <p:cNvSpPr/>
          <p:nvPr/>
        </p:nvSpPr>
        <p:spPr>
          <a:xfrm>
            <a:off x="2000160" y="11430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то уникальное земноводное миллионы лет назад соседствовало с динозаврами и сумело выжить и приспособиться к новым условиям жизни. Исполинская саламандра ведет водный образ жизни, активна в сумерках и ночью, предпочитает холодные, быстротечные горные ручьи и реки, сырые пещеры и подземные ре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928800"/>
            <a:ext cx="746748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ТО ТАКИЕ ЗЕМНОВОДНЫЕ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K:\Земноводные и пресмыкающиеся\File2962.jpg"/>
          <p:cNvPicPr/>
          <p:nvPr/>
        </p:nvPicPr>
        <p:blipFill>
          <a:blip r:embed="rId1"/>
          <a:stretch/>
        </p:blipFill>
        <p:spPr>
          <a:xfrm>
            <a:off x="214200" y="0"/>
            <a:ext cx="857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МНОГООБРАЗИЕ И БИОЭКОЛОГИЧЕСКИЕ ОСОБЕННОСТИ ЛЯГУШЕ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Заголовок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0922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K:\ляг трав.jpg"/>
          <p:cNvPicPr/>
          <p:nvPr/>
        </p:nvPicPr>
        <p:blipFill>
          <a:blip r:embed="rId2"/>
          <a:stretch/>
        </p:blipFill>
        <p:spPr>
          <a:xfrm>
            <a:off x="357120" y="1000080"/>
            <a:ext cx="8286840" cy="53578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5"/>
          <p:cNvSpPr/>
          <p:nvPr/>
        </p:nvSpPr>
        <p:spPr>
          <a:xfrm>
            <a:off x="785880" y="1500120"/>
            <a:ext cx="7286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Эти лягушки распространены по всему земному шару. Они прыгают в сумерках под сенью тропических и умеренных лесов. Травяную лягушку можно встретить в саду, огороде, или в лес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Эти лягушки средних размеров; террариумы им требуются небольш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Однако вылавливать их запрещено, они занесены в красную кни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982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" descr="K:\ляг серая.jpg"/>
          <p:cNvPicPr/>
          <p:nvPr/>
        </p:nvPicPr>
        <p:blipFill>
          <a:blip r:embed="rId2"/>
          <a:stretch/>
        </p:blipFill>
        <p:spPr>
          <a:xfrm>
            <a:off x="642960" y="1000080"/>
            <a:ext cx="7572240" cy="5643720"/>
          </a:xfrm>
          <a:prstGeom prst="rect">
            <a:avLst/>
          </a:prstGeom>
          <a:ln w="0">
            <a:noFill/>
          </a:ln>
        </p:spPr>
      </p:pic>
      <p:sp>
        <p:nvSpPr>
          <p:cNvPr id="530" name="TextBox 4"/>
          <p:cNvSpPr/>
          <p:nvPr/>
        </p:nvSpPr>
        <p:spPr>
          <a:xfrm>
            <a:off x="785880" y="2000160"/>
            <a:ext cx="83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Занесены в Красные книги Москвы и Московск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854280"/>
          </a:xfrm>
          <a:prstGeom prst="rect">
            <a:avLst/>
          </a:prstGeom>
          <a:ln w="0">
            <a:noFill/>
          </a:ln>
        </p:spPr>
      </p:pic>
      <p:sp>
        <p:nvSpPr>
          <p:cNvPr id="532" name="TextBox 2"/>
          <p:cNvSpPr/>
          <p:nvPr/>
        </p:nvSpPr>
        <p:spPr>
          <a:xfrm>
            <a:off x="785880" y="1643040"/>
            <a:ext cx="757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Величиной с травяную лягушку, но толще и массивнее. Окраска темно – серая. Кожа жабы матовая, сухая на ощупь, покрыта мелкими бугорками. Прыжки тяжелы, неуклюжи. В воде она неповоротна. Зиму проводит зарывшись в землю. Весной мечет иг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2" descr="K:\жаба обык.jpeg"/>
          <p:cNvPicPr/>
          <p:nvPr/>
        </p:nvPicPr>
        <p:blipFill>
          <a:blip r:embed="rId2"/>
          <a:stretch/>
        </p:blipFill>
        <p:spPr>
          <a:xfrm>
            <a:off x="857160" y="1143000"/>
            <a:ext cx="77155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K:\сам мал жаба"/>
          <p:cNvPicPr/>
          <p:nvPr/>
        </p:nvPicPr>
        <p:blipFill>
          <a:blip r:embed="rId2"/>
          <a:stretch/>
        </p:blipFill>
        <p:spPr>
          <a:xfrm>
            <a:off x="571680" y="1071720"/>
            <a:ext cx="800100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4"/>
          <p:cNvSpPr/>
          <p:nvPr/>
        </p:nvSpPr>
        <p:spPr>
          <a:xfrm>
            <a:off x="1285920" y="1357200"/>
            <a:ext cx="6786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Максимальная длина 7-9 см. Спинного гребня у китайского тритона нет. Паротиды (заушные железы) хорошо развиты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Самки крупнее самцов. Принципиальных различий в окраске не существует. В период спаривания у самцов происходит утолщение клоа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Обитает в устье реки Янцзы, Восточно-центральный Китай, провинции: южный Хубэй, Хэнань, южный Аньхой, Дзянсу, Чжэцзян, Цзянси, Хунань, Фуцзянь, Гуанси-Чжуанский автономный рай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Населяет различные стоячие водоемы, например, озера, болота, пруды, селится также на равнинных участках и в горах, окруженные лесным массивом, включая луговины и плантации. У особей, находящихся в водоеме, – активность дневная. У экземпляров, вышедших на сушу, – активность ноч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3" descr="K:\китайский тр"/>
          <p:cNvPicPr/>
          <p:nvPr/>
        </p:nvPicPr>
        <p:blipFill>
          <a:blip r:embed="rId2"/>
          <a:stretch/>
        </p:blipFill>
        <p:spPr>
          <a:xfrm>
            <a:off x="714240" y="1428840"/>
            <a:ext cx="77868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5:31:07Z</dcterms:created>
  <dc:creator>User</dc:creator>
  <dc:description/>
  <dc:language>en-US</dc:language>
  <cp:lastModifiedBy>Serg</cp:lastModifiedBy>
  <dcterms:modified xsi:type="dcterms:W3CDTF">2010-07-08T15:08:52Z</dcterms:modified>
  <cp:revision>17</cp:revision>
  <dc:subject/>
  <dc:title>Сезонные обитатели уголка природы дошкольного учреждения</dc:title>
</cp:coreProperties>
</file>